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.jpeg" ContentType="image/jpe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FD4-9212-47E4-953B-B13EFA6B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0AE-AA2F-4C85-B4A1-04C428D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60F-280A-4767-A563-EA97BE24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F9E-CDF8-44B3-BC25-0B67D19F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B902-65FA-4CBB-8887-B438A7E0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CF41-D5B1-4316-8EA6-D1FDFE8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82B3-124F-4572-9B90-20B92F68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6ED-D240-4147-9C63-047F7E4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B84-D6C5-4AB8-9624-8F7D25C2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3F16-2BD1-4CB2-B5A6-7A239D24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785E-A173-42F4-A5AF-C1FE135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46B-33AF-4BC3-B641-399D89F8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21B5-9991-49EB-8A71-0DF30C9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B901-0A15-4F67-AB0C-672C173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6F4-754E-4262-B942-DDDBC081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2974-1CD7-4E6B-AED1-C80ACDEC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782B-6E59-4141-986F-7345AC40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82E-BEB0-4DE0-B445-E82061B2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D41-57D3-4345-9E64-D9F80988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82F-6ECF-4D86-8BFB-204FA1E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6D1-FEE2-4FFB-8116-02AADEE3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4F0-9846-4DC1-8560-3D8FF7F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917-C6C2-41AD-A2D3-02559E0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AEE-7918-44E3-B7DD-A790D3E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787-C809-421F-98D7-23302ABF80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412-CD3F-4624-8BE6-028BA775C3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TzOiRqzzL4&amp;feature=related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GJIvEb6x6w&amp;NR=1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w10R9lv7eQ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7yku3sa4Y8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iJtDRJQEc&amp;feature=relate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0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r cells need to transport “stuff”?  What would be some things they would tran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diffusion and concentration grad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smosis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will happen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550800"/>
            <a:ext cx="8915400" cy="6307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685800"/>
            <a:ext cx="2362320" cy="30481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images.google.com/imgres?imgurl=http://www.goldiesroom.org/Multimedia/Bio_Images/06%2520Transport/06%2520Osmosis.jpg&amp;imgrefurl=http://www.goldiesroom.org/Note%2520Packets/06%2520Transport/00%2520Transport--WHOLE.htm&amp;usg=___jLC2fuTVg2WoENLx6stGwDLC28=&amp;h=296&amp;w=590&amp;sz=32&amp;hl=en&amp;start=19&amp;um=1&amp;tbnid=so3zloAhuKV4nM:&amp;tbnh=68&amp;tbnw=135&amp;prev=/images%3Fq%3Dosmosis%26hl%3Den%26client%3Dfirefox-a%26rls%3Dorg.mozilla:en-US:official%26sa%3DN%26um%3D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erse Osm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714840" cy="389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8769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2-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hypotonic solution?  What happens to the movement of molecule in an hypotonic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and in your warm 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the Egg lab (get out your lab she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urgor pressure, plasmolysis, hypertonic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geneous mixture (a uniform mixture) of two or more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t and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that is dissolved in another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 that the solute is dissolve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ost common solv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ology Warm Up 12-0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why water leaves the cell in a hypertonic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the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0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graphic organizer for hypotonic, hypertonic and isotonic solutions.  Tell me which way the water moves for each and what happens to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finish our egg lab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notes on turgor pressure and plas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o Warm Up 12-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a clean piece of paper you can turn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osmo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hypertonic solution?  What happens to the cell in this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hypotonic solution?  What happens to the cell in this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sotonic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in which the concentration of solutes outside the cell (ex: salts) is the same as the concentration of solutes inside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osmosis occur in this situ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, because there is no concentration gradient (no net mov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otonic S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in which the concentration of solutes (ex - salts) is LOWER than the solute concentration in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way will the water mov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 the cell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ell will swell / bu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put Elodea leaves in a hypotonic solution, what happens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will move into the cell to dilute the salts – this causes the cell to s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ElodeabforeER.jpg (75362 bytes)"/>
          <p:cNvPicPr/>
          <p:nvPr/>
        </p:nvPicPr>
        <p:blipFill>
          <a:blip r:embed="rId1"/>
          <a:stretch/>
        </p:blipFill>
        <p:spPr>
          <a:xfrm>
            <a:off x="4267080" y="3940200"/>
            <a:ext cx="3886200" cy="291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ElodeaafterER.jpg (77335 bytes)"/>
          <p:cNvPicPr/>
          <p:nvPr/>
        </p:nvPicPr>
        <p:blipFill>
          <a:blip r:embed="rId3"/>
          <a:stretch/>
        </p:blipFill>
        <p:spPr>
          <a:xfrm>
            <a:off x="6248520" y="4267080"/>
            <a:ext cx="2895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diffusion works, including the concentrations needed for the substance to 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egg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(hypotonic, hypertonic, isot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urgor Press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ssure that exists inside a cell caused by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turgor pressure can cause animal cells to burst. 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have a cell 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happen if there is low turgor pressure in pl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them to w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water the plant and it will regain the pressure and stand up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826400" y="51055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ertonic S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in which the concentration of solute (ex salt) is higher outside than the concentration in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direction will the water m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happen to an Elodea Leaf in a hypertonic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will leav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olysi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ill leaves the cell, and result in shriveling of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ElodeaafterER.jpg (77335 bytes)"/>
          <p:cNvPicPr/>
          <p:nvPr/>
        </p:nvPicPr>
        <p:blipFill>
          <a:blip r:embed="rId1"/>
          <a:stretch/>
        </p:blipFill>
        <p:spPr>
          <a:xfrm>
            <a:off x="5791320" y="4346640"/>
            <a:ext cx="3352680" cy="251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219400" cy="251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209680" y="4419720"/>
            <a:ext cx="1833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smolysis?  What would happen to the plant cell?  What is turgor pressure?  What happens to the plant if there is low turgor pressure?  High turgor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lasmolysis and turgor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 the effects of a hypo / hypertonic solution on Elodea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ummary of Hypo/Hypertonic solution changes on a RBC.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09880" y="2573280"/>
            <a:ext cx="7134120" cy="428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7391520" cy="518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90720" y="1143000"/>
            <a:ext cx="190476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1143000"/>
            <a:ext cx="190512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1143000"/>
            <a:ext cx="190512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ology Warm ATB 12-1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function of the contractile vacuole?  Why do some cells need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in egg lab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 p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Rubr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ge – lab write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ge – gra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ge – lab direction 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 – read pages 97-1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Questions #1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 in when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B 12-1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happen to a grape placed in highly concentrated sugar water?  Why would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e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rida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ell shrinks, it is in what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ell is at equilibrium with it’s environment, its in what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ell swells, it’s in what type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352680"/>
            <a:ext cx="147780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733920"/>
            <a:ext cx="110016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–9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– 1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73392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9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257800"/>
            <a:ext cx="13716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638680"/>
            <a:ext cx="9144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3868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114800"/>
            <a:ext cx="1447920" cy="141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441972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6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3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41972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4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5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tractile Vacuo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elle that excretes excess water from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found in unicellular freshwater org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events them from bursting in a hypotonic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le vacu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652920" y="2181240"/>
            <a:ext cx="5491080" cy="4676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191120" y="2133720"/>
            <a:ext cx="9144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133720"/>
            <a:ext cx="2057400" cy="2895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omeostasis and Cell Trans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67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81760" y="4505400"/>
            <a:ext cx="3162240" cy="235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4098960"/>
            <a:ext cx="3657600" cy="2759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095880" y="0"/>
            <a:ext cx="2743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lasmolys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turgor pressure in plant cell due to loss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to a plant during plasmolysi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t wi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ts plasma membrane and cytoplasm will shrink away from the 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Egg Lab Report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col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your starting mass and then use your final mass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in 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-360" y="3352680"/>
            <a:ext cx="5715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 column to you data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Change in Mas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(Initial Mass – Final Mass) / Initial Mass) x 1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all the changes in mass for your e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733920" y="0"/>
          <a:ext cx="5410080" cy="288144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762120"/>
                <a:gridCol w="990360"/>
                <a:gridCol w="167652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ing Mass (gram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 Mass (g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mass (g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% Change in Ma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(Initial Mass – Final Mass) / Initial Mass) x 10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g in shel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====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===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==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neg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n Syr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ll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048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Egg Lab Report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your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ure you are using the terms we’ve discussed in class in your explanation of your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 should turn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 –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 – Written lab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 –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 – Your actual lab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lective Permea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sma membrane to allows some materials to pass while keeping other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selective permeability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the cell can allow important substance in (water, oxygen, glucose) and keep harmful substances out (bacter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ssive Transpo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ssive Trans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ment of particles across membranes by di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rocess uses n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es moving from hi conc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w co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124080" y="3554280"/>
            <a:ext cx="51818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acilitated Diffus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e for passive transport using transport prote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es not use energy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732040"/>
            <a:ext cx="74674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– going from high conc. Outside cell low inside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19520" y="211464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305240"/>
            <a:ext cx="4572000" cy="2552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56577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through the cell membra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ein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 that assist 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153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1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function of transport proteins?  What is the function of the ion chann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FRIDAY!  RS due Fri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notes – Na + / K + pump, endocytosis, 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t movement of particles from an area of higher concentration to an area of lowe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because of the kinetic energy in molecules (random mov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 channel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– transport ions from high concentration to lowe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(like Na+, Ca+, etc) are not soluble in lipids, so they must travel through proteins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 channels are ion 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hannels are always open, some have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es open from stimuli:  stretching of cell membrab., electrical or chemical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62520" y="4361040"/>
            <a:ext cx="5181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867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ve Trans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ort of materials against a concentration gradient – requires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denosine tri-phosphate)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ERGY molecule for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s down fr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P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DP (Adenosi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-phosph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rolysis of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sphate releas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19720" y="3508200"/>
            <a:ext cx="47242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Active Transport Example</a:t>
            </a:r>
            <a:br>
              <a:rPr sz="2500"/>
            </a:b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STzOiRqzzL4&amp;feature=related</a:t>
            </a:r>
            <a:br>
              <a:rPr sz="1000"/>
            </a:b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43000" y="1616040"/>
            <a:ext cx="67816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ium-potassium Pump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 protei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s Na+ out and K+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electrical grad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or nerve impul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bGJIvEb6x6w&amp;NR=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2120" y="3040200"/>
            <a:ext cx="83818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+ / K+ Pum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docyt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a cell surrounds and takes in material from th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____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 Up 12-1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picture illustrating end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/ RS tomorr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for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review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489640" y="2362320"/>
            <a:ext cx="3654360" cy="4238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3805200"/>
            <a:ext cx="54864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ocytosi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fluids into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43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usion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 dye slowly diffuses b/c of the movement of the water molecules and the dye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usion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dor molecules bounce against each other and the gas molecules in the air and slowly diffuse into the class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gocytosi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 of large particles / cells into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gocyte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that ingest bacteria / viruses – lysosomes fuse w/ vesicle to destroy them before harm d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1w10R9lv7eQ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952880" cy="3333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a cell expels materials to the extracellular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exports proteins, hormones and wastes this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cess uses 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o / Exocyt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267080" y="3695760"/>
            <a:ext cx="4876920" cy="31622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344484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ytosis and end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K7yku3sa4Y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24280" y="2809800"/>
            <a:ext cx="3076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po / Hypertonic 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5800" y="1336680"/>
            <a:ext cx="79246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oncentration of molecules across a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ynamic Equilibriu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ndition in which there is continuous movement but no overal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means there no longer is a concentration grad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“high” and no “low” – everything i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ffusion of water molecules through a selectively permeabl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of water goes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concentration to lowe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youtube.com/watch?v=sdiJtDRJQEc&amp;feature=relat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67723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38480" y="3276720"/>
            <a:ext cx="2667240" cy="30477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r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way will the water mo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895480"/>
            <a:ext cx="2666880" cy="2514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362320"/>
            <a:ext cx="2819520" cy="2895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760" y="27795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251460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7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40440" y="366084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7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920" y="526104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6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5240" y="327672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rose = 6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=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re will the water mov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586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29400" y="1905120"/>
            <a:ext cx="2514600" cy="4419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10:05Z</dcterms:created>
  <dc:creator>SASD</dc:creator>
  <dc:description/>
  <dc:language>en-US</dc:language>
  <cp:lastModifiedBy>SASD</cp:lastModifiedBy>
  <dcterms:modified xsi:type="dcterms:W3CDTF">2009-12-17T13:30:18Z</dcterms:modified>
  <cp:revision>47</cp:revision>
  <dc:subject/>
  <dc:title>Slide 1</dc:title>
</cp:coreProperties>
</file>